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01D-20C0-4041-A780-5A92F192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4AD-C841-457B-8DC9-C1073D9B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BD4-6B5F-40CB-854B-B670401B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99C-F311-41E2-A86D-5F91FB4D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7D55-3A00-4FC4-99F6-365054CF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82F9-1495-4301-9054-CE7C658C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56C1-6A84-4AB1-952A-F4D289E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DFD9-7CF0-46CF-A9C1-069CC67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64B4-86B0-4687-83E7-D115AA99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2F7F-42B6-4300-87B3-26C65BC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93F5-8551-4D2E-B119-BF728E45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7F4-40B8-43A9-9338-9AD32B43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4192-B3F4-46BC-B178-896EF22B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480F-6720-49FD-AA36-18901471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1428-F21D-4D0C-85EF-2B8BD9F1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66AD-88A3-4455-90DF-40E9FD02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33B3-37B9-4738-ACF7-EDDA7DBE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01E-7173-4E3E-8C04-A2EE7910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B85-EB49-4C94-9845-C7D6789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EA3-6CA5-4D52-A810-0420BA19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A79-8D66-47C5-9674-4BD7976C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112-565A-4916-8E04-D12D50C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D87-5C0A-47EB-B34C-F5C68163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CD4-3E51-4704-A3D0-9DE43E4D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10E4-1EC7-409B-831C-616FF36FAE0A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9434-ABE3-420E-9D38-EBDB1F5A301C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1143000"/>
            <a:ext cx="6994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PAŽINIMO PROCESAI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UTIMAS IR SUVOK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PALVOS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0560" y="2643120"/>
            <a:ext cx="75484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LAUSA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mplitudė, daž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usis: vidurinė a., vidinė a., sraig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ITI JUTIMAI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yta: spaudimo, šilumos, šalčio ir skausmo derinys; Melzacko ir Wallio „vartų kontrolės“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konis: saldu, rūgštu, sūru ir kar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osl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ūno padėtis ir judėjimas - kineste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okinys - sąmonėje susiformavęs daikto, reiškinio ar įvykio visumos atspind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ercepcija – patyrimo įtaka suvok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NIO KŪRIMA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suvokimas: grupavimo taisyklės (artumas, panašumas, ištisumas, uždarumas, susietu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042160" cy="316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5280" y="3305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  <a:ea typeface="Arial"/>
              </a:rPr>
              <a:t>Fonas - figū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Laiko 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is laiko interval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mažiausias tarp dviejų įvykių juntamas laiko tarp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tuacijos pobū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tyv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mžiaus fakt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ylio suvokimas: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trimačių objektų matyma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inokuliniai signalai: atvaizdų skirtumas tinklainėse, akių konverg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nokuliniai signalai: santykinis dydis, sanklota, oro perspektyva, tekstūros gradientas, santykinis judėjimas, tiesinė perspektyva, santykinis skaistis, santykinis aukš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2160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MO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ir 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nz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498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NIO ĮPRASM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ulller-Lyeri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ostatos, apercepcijos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38289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ttp://www.michaelbach.de/o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9280" y="1447560"/>
            <a:ext cx="8676720" cy="3392640"/>
            <a:chOff x="179280" y="1447560"/>
            <a:chExt cx="8676720" cy="3392640"/>
          </a:xfrm>
        </p:grpSpPr>
        <p:cxnSp>
          <p:nvCxnSpPr>
            <p:cNvPr id="100" name="_s34830"/>
            <p:cNvCxnSpPr>
              <a:stCxn id="101" idx="1"/>
              <a:endCxn id="102" idx="2"/>
            </p:cNvCxnSpPr>
            <p:nvPr/>
          </p:nvCxnSpPr>
          <p:spPr>
            <a:xfrm rot="10800000">
              <a:off x="2908800" y="2424960"/>
              <a:ext cx="283320" cy="212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4829"/>
            <p:cNvCxnSpPr>
              <a:stCxn id="104" idx="1"/>
              <a:endCxn id="102" idx="2"/>
            </p:cNvCxnSpPr>
            <p:nvPr/>
          </p:nvCxnSpPr>
          <p:spPr>
            <a:xfrm rot="10800000">
              <a:off x="2908800" y="2424960"/>
              <a:ext cx="283320" cy="132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4828"/>
            <p:cNvCxnSpPr>
              <a:stCxn id="106" idx="1"/>
              <a:endCxn id="102" idx="2"/>
            </p:cNvCxnSpPr>
            <p:nvPr/>
          </p:nvCxnSpPr>
          <p:spPr>
            <a:xfrm rot="10800000">
              <a:off x="2908800" y="2424960"/>
              <a:ext cx="283320" cy="51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34824"/>
            <p:cNvSpPr/>
            <p:nvPr/>
          </p:nvSpPr>
          <p:spPr>
            <a:xfrm>
              <a:off x="179280" y="1447560"/>
              <a:ext cx="5461560" cy="9781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Ų STIMULŲ POVEIKIO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EM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4825"/>
            <p:cNvSpPr/>
            <p:nvPr/>
          </p:nvSpPr>
          <p:spPr>
            <a:xfrm>
              <a:off x="3192480" y="265428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VED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6"/>
            <p:cNvSpPr/>
            <p:nvPr/>
          </p:nvSpPr>
          <p:spPr>
            <a:xfrm>
              <a:off x="3192480" y="3459240"/>
              <a:ext cx="5663520" cy="57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APDOROJ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4827"/>
            <p:cNvSpPr/>
            <p:nvPr/>
          </p:nvSpPr>
          <p:spPr>
            <a:xfrm>
              <a:off x="3192480" y="426384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PRASMIN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GRINDINĖS 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utim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procesas, primityviai atspindintis daiktų ir reiškinių savybes ar organizmo vidinę būseną, kai tai tiesiogiai veikia jutimo organ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jūtis (jutimo proceso rezultat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adekvatus dirgiklio, arba stimulo, vaizdas mūsų smegen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vok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psichinis procesas, daikto ar reiškinio vaizdo formavim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ensorinės sistemos -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sistemos, kurios priima išorinius signalus, atlieka jų analizę ir priima sprendimą, koks objektas veikia jų įėj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ojūčių skirstymas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sensorinės sistemo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viesos (reg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ustinius (klaus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nius (uoslė, skon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tilinius (lyt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motorinius (vestibiulik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usmo, temperatūros, vidinės organizmo būse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o lauko(?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trasensorinius(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BENDRIEJI POJŪČIŲ YPATUM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al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ruk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atentinis la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imtis, tan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autris (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akomas pojūčių slenksčia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OJŪČIŲ SLENKSČ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us žemutinis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mažiausias dirginimas, kurios reikia konkrečiam dirgikliu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kislenkstinis dirg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tumo arba skyrimo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mažiausias dviejų dirgiklių skirtumas, kurį 50 % atvejų gal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ėberio dėsn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skirtumo slenkstis yra ne pastovus kiekis, bet tam tikras pastovus dirgiklių santy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utimų adap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REG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zdys, rainelė, lęšiukas, akomodacija, tinklainė, stiebeliai (lazdelės), kūgeliai, akloji dėmė, regos nervas, požymių detektor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5676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EGA: SPALVŲ SUVOK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oungo ir Helmholtzo trijų spalvų teor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tinklainėje yra 3-jų rūšių spalvos receptorių: kiekvienos jų receptoriai yra ypač jautrūs vienai iš trijų spalvų (žalia, mėlyna, raud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ponentinių procesų teorija (Hering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palikusi receptorius, regimoji informacija toliau analizuojama priešingų spalvų požiūri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800" spc="-1" strike="noStrike">
                <a:solidFill>
                  <a:srgbClr val="330033"/>
                </a:solidFill>
                <a:latin typeface="Tahoma"/>
              </a:rPr>
              <a:t>Oponentinių procesų teorija (pvz.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08280" y="1692360"/>
            <a:ext cx="6121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53:02Z</dcterms:created>
  <dc:creator>TADAS</dc:creator>
  <dc:description/>
  <dc:language>en-US</dc:language>
  <cp:lastModifiedBy> </cp:lastModifiedBy>
  <dcterms:modified xsi:type="dcterms:W3CDTF">2007-09-13T22:08:20Z</dcterms:modified>
  <cp:revision>24</cp:revision>
  <dc:subject/>
  <dc:title>Slide 1</dc:title>
</cp:coreProperties>
</file>